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FAE-5B07-4A25-A937-872FDFE1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387B-4EC5-4F27-96A9-567F361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DCA-BD46-4F7B-A3EB-FE64C18D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AC8-2AA4-4709-B6BA-28C16BD1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27B-C949-48B3-9FCE-B564AB5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80D-235D-484E-8FDD-60950648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D3E6-DA07-440E-AC6D-D91514C9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6E3-EB79-4326-8152-751B2720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AC3-3496-4A7A-957B-401EF6E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2DC-200D-41C9-BC4E-80845964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7DC-C0D4-4EB1-8B02-A6071A92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64F6-632D-4239-9C2A-3688C689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D5D-1499-4791-8130-03F8A048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¿Cómo funciono el expression on a controversial topic en la gente que escuchó el progra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al escuchar lo que Orson Welles estaba relatando empezaron a intrigarse por lo que el locutor estaba diciendo y la forma en que lo relataba que parecía ser tan real, pero aún así la gente guardaba sus comentarios y sus especulación ante el hecho “paranorm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2.- ¿Cómo funcionó el expression of an attit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entras la narración en la transmisión fue avanzando, la credibilidad sobre la misma también, la gente empezó a creer que aquello no se trataba de ninguna broma ni de algún programa sobre hechos paranormales, y muchos radioescuchas empezaron a caer en crisis y ataques de pá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3.- ¿Cómo funcionó el attitu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gente empezó a tomar medidas drásticas, como el cerrar sus casas con seguro y no salir de ahí hasta que se supiera bien lo que ocurría, muchos más entraron en pánico y la estación radiofónica donde se transmitía el “suceso paranormal” recibía y recibía miles de llamadas por parte de radioescuchas atemorizados ante ta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4.- Cita un ejemplo de las tres partes del postulado expresadas en la pregunta anterior que hayas detectado en algún asunto que haya sido discutido en la opinión púb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aso tan famoso sobre el tema de la “influenza”, cuando empezó a surgir el brote de este virus, la gente se mantenía un tanto incrédula ante el mismo, posteriormente se empezaron a dar varios supuestos casos de gente enferma y muerta a causa de el y así la gente empezó a tomar medidas como el no salir para nada de sus casas, y a no usar el transporte público (camiones), posteriormente después de varios días, mucha gente tomó la decisión de salir de sus casas, unos pensando que el virus se había ido, y otros tantos pensando en que todo eso había sido una farsa por parte d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18:32:04Z</dcterms:created>
  <dc:creator>MARCO</dc:creator>
  <dc:description/>
  <dc:language>en-US</dc:language>
  <cp:lastModifiedBy>MARCO</cp:lastModifiedBy>
  <dcterms:modified xsi:type="dcterms:W3CDTF">2009-09-27T18:42:42Z</dcterms:modified>
  <cp:revision>2</cp:revision>
  <dc:subject/>
  <dc:title>¿Cómo funciono el expression on a controversial topic en la gente que escuchó el programa?</dc:title>
</cp:coreProperties>
</file>